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239-811B-41A2-A11A-D9B27D5D8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10C3-8DF0-4B53-BBC5-ECA8C865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D38-8930-46AB-B6A2-B2740A63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B881-53C8-4466-9287-E22BFAAB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CE28-DBED-4689-8B5A-8DE4B12E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53B1-9CA2-42CC-9300-9B954FD5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6DAE-AFA0-4F01-88DF-AF34D596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D2F-AE0E-44AE-B49E-5B6A199B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8AD-0FE2-4DDF-888A-909BBB2B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60E0-2DE9-4086-93E4-A7E11AE9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90C-5666-4529-88B2-0DDE6CC5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26F8-082F-475E-B7A3-8D60D95B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8E91-8A95-4841-8390-7148D7A89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61280" y="6421320"/>
            <a:ext cx="1782720" cy="43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elations in Anatomy and Image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2920" y="3933360"/>
            <a:ext cx="676908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rk Marw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nstitute for Formal Ontology and Medical Information Science, Saarland University, Saarbruecken,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partment of Diagnostic Radiology, Leipzig University, Germa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3478320"/>
            <a:ext cx="5688360" cy="3190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2592360" cy="2592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916360" y="765000"/>
            <a:ext cx="2663640" cy="259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580000" y="765000"/>
            <a:ext cx="280836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lass-Level Relations between Image Entity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image_of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1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asic relation holding between two continu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anatomical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hological image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anatomical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hological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1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 property relation holding between two continu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anatomical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hological image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 feature attribut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has_location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asic location relation holding between two continuan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visual feature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athological image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is an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anatomical image entity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lass-level relations between Image Entity Types and the F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3789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55640" y="2205000"/>
            <a:ext cx="7705800" cy="3062520"/>
            <a:chOff x="755640" y="2205000"/>
            <a:chExt cx="7705800" cy="3062520"/>
          </a:xfrm>
        </p:grpSpPr>
        <p:sp>
          <p:nvSpPr>
            <p:cNvPr id="91" name=""/>
            <p:cNvSpPr/>
            <p:nvPr/>
          </p:nvSpPr>
          <p:spPr>
            <a:xfrm>
              <a:off x="755640" y="2636640"/>
              <a:ext cx="28083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Anatomical Image 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708360" y="2852640"/>
              <a:ext cx="19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211640" y="249228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Times New Roman"/>
                </a:rPr>
                <a:t>image_o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5867280" y="2205000"/>
              <a:ext cx="2016000" cy="1512720"/>
              <a:chOff x="5867280" y="2205000"/>
              <a:chExt cx="2016000" cy="15127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5940000" y="2780640"/>
                <a:ext cx="1800360" cy="732240"/>
                <a:chOff x="5940000" y="2780640"/>
                <a:chExt cx="1800360" cy="732240"/>
              </a:xfrm>
            </p:grpSpPr>
            <p:cxnSp>
              <p:nvCxnSpPr>
                <p:cNvPr id="96" name="_s53254"/>
                <p:cNvCxnSpPr>
                  <a:stCxn id="97" idx="0"/>
                  <a:endCxn id="98" idx="2"/>
                </p:cNvCxnSpPr>
                <p:nvPr/>
              </p:nvCxnSpPr>
              <p:spPr>
                <a:xfrm flipV="1" rot="16200000">
                  <a:off x="7081560" y="2831400"/>
                  <a:ext cx="147240" cy="630000"/>
                </a:xfrm>
                <a:prstGeom prst="bentConnector3">
                  <a:avLst>
                    <a:gd name="adj1" fmla="val 50000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99" name="_s53255"/>
                <p:cNvCxnSpPr>
                  <a:stCxn id="100" idx="0"/>
                  <a:endCxn id="98" idx="2"/>
                </p:cNvCxnSpPr>
                <p:nvPr/>
              </p:nvCxnSpPr>
              <p:spPr>
                <a:xfrm flipV="1">
                  <a:off x="6840360" y="3072960"/>
                  <a:ext cx="1080" cy="147240"/>
                </a:xfrm>
                <a:prstGeom prst="bentConnector2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1" name="_s53256"/>
                <p:cNvCxnSpPr>
                  <a:stCxn id="102" idx="0"/>
                  <a:endCxn id="98" idx="2"/>
                </p:cNvCxnSpPr>
                <p:nvPr/>
              </p:nvCxnSpPr>
              <p:spPr>
                <a:xfrm flipH="1" flipV="1" rot="5400000">
                  <a:off x="6451920" y="2831040"/>
                  <a:ext cx="147240" cy="631440"/>
                </a:xfrm>
                <a:prstGeom prst="bentConnector3">
                  <a:avLst>
                    <a:gd name="adj1" fmla="val 50000"/>
                  </a:avLst>
                </a:prstGeom>
                <a:ln w="2844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98" name="_s53257"/>
                <p:cNvSpPr/>
                <p:nvPr/>
              </p:nvSpPr>
              <p:spPr>
                <a:xfrm>
                  <a:off x="6569640" y="2780640"/>
                  <a:ext cx="541440" cy="292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4960" rIns="84960" tIns="42480" bIns="42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_s53258"/>
                <p:cNvSpPr/>
                <p:nvPr/>
              </p:nvSpPr>
              <p:spPr>
                <a:xfrm>
                  <a:off x="5940000" y="3220200"/>
                  <a:ext cx="540000" cy="292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4960" rIns="84960" tIns="42480" bIns="42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_s53259"/>
                <p:cNvSpPr/>
                <p:nvPr/>
              </p:nvSpPr>
              <p:spPr>
                <a:xfrm>
                  <a:off x="6570000" y="3220200"/>
                  <a:ext cx="540000" cy="292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4960" rIns="84960" tIns="42480" bIns="42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_s53260"/>
                <p:cNvSpPr/>
                <p:nvPr/>
              </p:nvSpPr>
              <p:spPr>
                <a:xfrm>
                  <a:off x="7200360" y="3220200"/>
                  <a:ext cx="540000" cy="292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4960" rIns="84960" tIns="42480" bIns="42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6011640" y="2205000"/>
                <a:ext cx="1655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Times New Roman"/>
                  </a:rPr>
                  <a:t>Anatomical Entity (FMA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7280" y="2205000"/>
                <a:ext cx="2016000" cy="1512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5580000" y="4868640"/>
              <a:ext cx="28814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Times New Roman"/>
                </a:rPr>
                <a:t>Pathological Image Ent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42920" y="4868640"/>
              <a:ext cx="2305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ea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4000" y="3141720"/>
              <a:ext cx="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84360" y="3717720"/>
              <a:ext cx="12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Times New Roman"/>
                </a:rPr>
                <a:t>has_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2340000" y="3141720"/>
              <a:ext cx="0" cy="158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492000" y="5084640"/>
              <a:ext cx="187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51280" y="46530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Times New Roman"/>
                </a:rPr>
                <a:t>has_feat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563640" y="3213000"/>
              <a:ext cx="2808360" cy="15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7640" y="3429000"/>
              <a:ext cx="1295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600" spc="-1" strike="noStrike">
                  <a:solidFill>
                    <a:srgbClr val="000000"/>
                  </a:solidFill>
                  <a:latin typeface="Times New Roman"/>
                </a:rPr>
                <a:t>has_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ubrelations of has_fea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 to annotate properties to anatomical and pathological image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phology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sha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nal gl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 Image Ent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sha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:Sha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 vertebral bod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tomical Image Entit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reased in heigh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:S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composition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1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mor [Pathological Image Entity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composition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ystic [Attribute:Composition]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 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density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1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r [Anatomical Image Entity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density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ypodense [Attribute:Density]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 (or contrast phase).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amoun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1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monary nodule [Pathological Image Entity]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_amount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ltiple [Attribute:Amount]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of examination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Use of Relations in Medical Imag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486080"/>
            <a:ext cx="511344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[GeneralFeature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ulmonary embolism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timing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a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loca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[Anatomical Image Entity]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featur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[MorphologyFeature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loca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upper right lobe of right lung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margi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spicu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shap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composi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vidence for malignant neoplasm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Anatom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featur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MorphologyFeatu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yroid gland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size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enl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Anatom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featur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MorphologyFeatur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loca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[Anatomical Image Entity]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ilar lymph node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composition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alc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ranuloma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location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upper lobe of left lung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vidence for</a:t>
            </a:r>
            <a:r>
              <a:rPr b="0" i="1" lang="de-DE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uberculosis </a:t>
            </a: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has_timing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1700280"/>
            <a:ext cx="18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sease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191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3284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306864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ing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4581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73408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ing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7672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4720" y="4365720"/>
            <a:ext cx="18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ing Ontology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84720" y="6093000"/>
            <a:ext cx="22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sease 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6720" y="63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8532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ntities of two dom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ody Ent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e Entities (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dependent entities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struction of an Imaging 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age Entity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atomical Image ent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thological Image Ent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atu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lass level relations between Image Entity Types (and the F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pplication Ontology (RadiO) for Diagnostic Dom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nnotating image features to Anatomical and Pathological Image entit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riteria for Pathological Image Entities: Tracking the use of relations between image entity types to discriminate image features of disea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eparating/linking of an Imaging Ontology from/to other Ontologies of Diseases/Diagno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48360" y="5950080"/>
            <a:ext cx="302400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alignant ne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[Pathological Image Entity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de-DE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ost-tubercul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5640" y="3429000"/>
            <a:ext cx="7848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atthew Fieldi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arry Smith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niel Rubi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adLex Committe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O relation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natomical Entities (Foundational Model of Anatomy, F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lations in Anatomy Ont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agnostic Domain of Medial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 Entity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lations between Image Entity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Building an Imaging Ontology (Rad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BO relation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ree types of binary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 class, class &gt;: e.g.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is_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ung </a:t>
            </a: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is_a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obular org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 instance, class &gt;: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instance_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is particular „lung“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instance_of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lass l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&lt; instance, instance &gt;: instance-level relation, e.g.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is particular instance of „right lower lobe of lung“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this particular instance of „right lung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lations between classes represent what is general in </a:t>
            </a:r>
            <a:r>
              <a:rPr b="0" i="1" lang="de-DE" sz="2000" spc="-1" strike="noStrike">
                <a:solidFill>
                  <a:srgbClr val="000000"/>
                </a:solidFill>
                <a:latin typeface="Times New Roman"/>
              </a:rPr>
              <a:t>reality.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lass leve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u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is_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lobular or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stance level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is particular instance of lung </a:t>
            </a:r>
            <a:r>
              <a:rPr b="1" i="1" lang="de-DE" sz="1600" spc="-1" strike="noStrike">
                <a:solidFill>
                  <a:srgbClr val="000000"/>
                </a:solidFill>
                <a:latin typeface="Times New Roman"/>
              </a:rPr>
              <a:t>is_a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particular instance of lobular org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natomical Ontologies (F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8428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Class level-rel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Structural Relationship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between Anatomical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oundary (bounded_b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artonomy (part_of, regional_part_of, constitutional_part_of,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Spatial Association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ocation (located_in, contained_in, adjecent_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rientation (coordinate, lateral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Connectivity (continuous_with, attached_t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Times New Roman"/>
              </a:rPr>
              <a:t>Properties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of Anatomical Entit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Dimens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hysical Proper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anonical Anatomical Entity - Lu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921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e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edical Imaging is concerned with diagnosing dise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How we come from an image to a diagnosis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hat kind of entities exist on the image and how do they relate to each other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age Entity Typ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natomical Image Entit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thological Image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42210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imes New Roman"/>
              </a:rPr>
              <a:t>dependent ent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ing body ent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116000" y="1628640"/>
            <a:ext cx="6781680" cy="4248360"/>
            <a:chOff x="1116000" y="1628640"/>
            <a:chExt cx="6781680" cy="4248360"/>
          </a:xfrm>
        </p:grpSpPr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1260360" y="4511520"/>
              <a:ext cx="2217600" cy="136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116000" y="2235240"/>
              <a:ext cx="1301760" cy="17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3635280" y="2560680"/>
              <a:ext cx="1746360" cy="17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011640" y="3716280"/>
              <a:ext cx="1440000" cy="210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6227640" y="1628640"/>
              <a:ext cx="1670040" cy="1731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900000" y="1628640"/>
            <a:ext cx="7128000" cy="4427640"/>
            <a:chOff x="900000" y="1628640"/>
            <a:chExt cx="7128000" cy="442764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900000" y="2060640"/>
              <a:ext cx="1655640" cy="194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>
              <a:off x="6084720" y="1628640"/>
              <a:ext cx="194328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8"/>
            <a:stretch/>
          </p:blipFill>
          <p:spPr>
            <a:xfrm>
              <a:off x="5868720" y="3716280"/>
              <a:ext cx="201636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9"/>
            <a:stretch/>
          </p:blipFill>
          <p:spPr>
            <a:xfrm>
              <a:off x="1260360" y="4510080"/>
              <a:ext cx="2232000" cy="154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0"/>
            <a:stretch/>
          </p:blipFill>
          <p:spPr>
            <a:xfrm>
              <a:off x="3492360" y="2492280"/>
              <a:ext cx="1943280" cy="189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e Entity Types –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natomical Image Ent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2808360" cy="2116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16000" y="1989000"/>
            <a:ext cx="2895480" cy="2171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63560" y="3780000"/>
            <a:ext cx="328680" cy="2887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971640" y="4724280"/>
            <a:ext cx="3095640" cy="1791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572000" y="4724280"/>
            <a:ext cx="325764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V="1">
            <a:off x="5435640" y="2637000"/>
            <a:ext cx="1224000" cy="27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773000" y="4068720"/>
            <a:ext cx="422280" cy="188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mage Entity Types – Pathological Image 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64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ich diseases can be inferred from imag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What kind of image features do diseases hav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oes a disease have in any case identical image featur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f not, what are criteria which give evidence for a dise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191628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athological Image E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4076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67640" y="285264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07:14:41Z</dcterms:created>
  <dc:creator>r9marw</dc:creator>
  <dc:description/>
  <dc:language>en-US</dc:language>
  <cp:lastModifiedBy>Dirk</cp:lastModifiedBy>
  <dcterms:modified xsi:type="dcterms:W3CDTF">2006-03-24T23:48:01Z</dcterms:modified>
  <cp:revision>795</cp:revision>
  <dc:subject/>
  <dc:title>Relations in Image Ontologies</dc:title>
</cp:coreProperties>
</file>